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5134-9902-445A-995A-4B37F4406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6F97-750A-4DBC-B7B0-44761F70B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4F3C-5428-405F-B5BB-0C24B36B2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E3F0-3EF9-4521-B61D-D78C6F0AA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A061-9EC5-4719-AC0E-5E067205D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32FC-6DAE-4DDB-A3F6-D3033B7C5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A467-C386-4416-9698-67C43466E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FDEA-F894-416C-A571-C21991B68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FC7D-8F27-47A4-A590-526C65009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EC43-B83B-4BCF-8ADE-C1F56D61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06B5-4B55-4791-BDDA-F527EB6D8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4CF6-AF78-42E2-A960-6CFAE64E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CB36C-BC3F-4243-8753-44C09D9BE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838080"/>
            <a:ext cx="121932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ovan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1066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352680" y="838080"/>
            <a:ext cx="121932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F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90920" y="10666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00200" y="2133720"/>
            <a:ext cx="1219320" cy="533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Q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81280" y="2133720"/>
            <a:ext cx="1219320" cy="533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F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19520" y="23623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3352680"/>
            <a:ext cx="121932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581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352680" y="3352680"/>
            <a:ext cx="121932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F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909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9520" y="87804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82440" y="2109960"/>
            <a:ext cx="171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ent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95280" y="2438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20" y="3276720"/>
            <a:ext cx="122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i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1066680"/>
            <a:ext cx="8380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4343400"/>
            <a:ext cx="3733560" cy="2133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94360" y="4303800"/>
            <a:ext cx="36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2 Comparison Web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81480" y="4648320"/>
            <a:ext cx="18288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218920" y="4672080"/>
            <a:ext cx="14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Lay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91520" y="4876920"/>
            <a:ext cx="121896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81480" y="5562720"/>
            <a:ext cx="18288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18200" y="5586480"/>
            <a:ext cx="12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 Cha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tterp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75680" y="4836960"/>
            <a:ext cx="13111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Javascript &amp; HTM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10080" y="1828800"/>
            <a:ext cx="121932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-G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800600" y="2362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4572000" y="266688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2386200">
            <a:off x="4801320" y="11430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70360" y="20574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18376800">
            <a:off x="4779720" y="30708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629400" y="2286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15200" y="1143000"/>
            <a:ext cx="1447920" cy="220968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2209680"/>
              <a:gd name="textAreaBottom" fmla="*/ 2139120 h 2209680"/>
            </a:gdLst>
            <a:ahLst/>
            <a:rect l="textAreaLeft" t="textAreaTop" r="textAreaRight" b="textAreaBottom"/>
            <a:pathLst>
              <a:path w="21600" h="32961">
                <a:moveTo>
                  <a:pt x="3600" y="0"/>
                </a:moveTo>
                <a:arcTo wR="3600" hR="3600" stAng="16200000" swAng="-5400000"/>
                <a:lnTo>
                  <a:pt x="0" y="29361"/>
                </a:lnTo>
                <a:arcTo wR="3600" hR="3600" stAng="10800000" swAng="-5400000"/>
                <a:lnTo>
                  <a:pt x="18000" y="329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F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ervice fl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contr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7162920" y="335268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02:00Z</dcterms:created>
  <dc:creator>sf</dc:creator>
  <dc:description/>
  <dc:language>en-US</dc:language>
  <cp:lastModifiedBy>sf</cp:lastModifiedBy>
  <dcterms:modified xsi:type="dcterms:W3CDTF">2007-09-14T17:09:06Z</dcterms:modified>
  <cp:revision>2</cp:revision>
  <dc:subject/>
  <dc:title>Slide 1</dc:title>
</cp:coreProperties>
</file>